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B244-81E8-4929-8E11-41778A1A5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4953-5B3C-4348-8B98-409D30FD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EF1C-9FFD-4BED-BC5A-91433508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D614-81DC-4320-A230-C9EAE9972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3CAA-097C-44D9-BFB9-A0081C77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14E9-D980-46B8-89DA-C62BC597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CC4F-9B05-49ED-AA27-CC5E22AC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45CB-D4AB-48E7-89CF-304D6C05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FF7C-91F1-4C58-BE65-2CC81BE4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661C-CD4D-4261-BAB7-CB006799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A05E-71CD-4A9B-AF30-74E6D02E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9AF8-461C-4BE3-95E4-A7E881A3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A1A2-D71B-415B-8494-B49E9B01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DC9A-1533-4B47-8A76-34FFC75C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51C0-FBF2-494B-A50D-100089FA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A714-1DC6-4EB1-8068-F2FC6860D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ADA7-AE72-4180-84D6-8A7EB76EF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FD2EE-FD38-4FA1-891E-D837365C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DF0C6-9707-47C1-AABA-A1C0B38B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3564C-958F-4EC7-A892-3F2213AA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749F6-1986-4196-9CCD-D3718B26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6A975-207B-44A2-A2FD-47DCFD32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E990-0251-48D3-A6D7-36FC6267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D3BA4-F934-4329-9160-93781B4C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811C0-6F8A-4533-9435-8C9C35EC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09B9C-9007-4321-BB28-62350056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2BCCF-BD72-48FB-AC4B-8CBB8F14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571C6-499E-46B1-98A7-CE31CFB0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99E8A-EF05-4DDC-993F-BC109DB6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0DC65-899A-4B04-8B69-4EF64E4EB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094C1-B7E3-4455-98C1-2EF834C3B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2BADA-04F9-45CB-9943-AE948AE7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94302-9757-4E8A-8AD2-0129E145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67ED-DFC6-429A-8891-4E7E696A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910AA-C1C8-446F-B762-9F072429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56955-ECD1-414B-8CE2-1331A86E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AF675-23C5-495E-BA0C-365F9B71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250D6-5763-4FAC-9456-7BCF885C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B3B53-8DDC-4C7C-A8FC-EA5CF3AF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5460C-F3FE-4AE7-A6F0-955BFE39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4D1F5-5957-4130-8A1A-4FEA8F0C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66331-60B5-452F-8E45-FC7436D81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7763F-872D-4869-BD97-20928B06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25F9A-857C-40AE-BE3D-156395A23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2958-ED64-4EFB-B821-9AA23EF3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3A794-C67A-4009-B12E-384C94BA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4902A-24A9-4C11-BF33-B4D6E404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30286-EC9A-4C46-9A21-1D38161F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D3A51-A30F-4C9C-9937-EE861809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A7D40-FFC6-4667-BDC7-95FF480B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1D6F4-5F79-4D93-893E-2478C363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B07DF-A9DD-4158-928C-865F2F32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EC78F-8961-42C2-9203-B88B91C4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20824-8471-4081-A82B-DCE5E11C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2B76E-DF54-4FE5-A2AF-B42FA766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4626-5517-4CFE-900E-67BC6F1B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D275F-6FFB-4A3F-99A9-E1B99430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08B2-BD0A-4B28-8852-04D7E9F0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3055-12BA-4DA3-9A2D-C3B022A8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77A4-5611-476F-903D-688FA5BF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B175-E55C-4DE9-9A79-1899405CAB1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CD5D-8F80-41B1-9430-A318C02D605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318C-348D-49F3-95C2-A0878BC699D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F143-F880-431D-9103-9D8E48EA325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46C0-2909-4E0B-9925-666E7ED8CF7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Sept. 24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English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2216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genda for Freshme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22160" y="2547720"/>
            <a:ext cx="7772400" cy="21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Perpetua"/>
              </a:rPr>
              <a:t>DO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Perpetua"/>
              </a:rPr>
              <a:t>Ch. 2 and 3 discuss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Perpetua"/>
              </a:rPr>
              <a:t>Ch. 3 journal respons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Perpetua"/>
              </a:rPr>
              <a:t>Ch. 4 for homework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genda for Junior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O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alden Quiz (open book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2216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OL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2216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8989"/>
                </a:solidFill>
                <a:latin typeface="Perpetua"/>
              </a:rPr>
              <a:t>I took biology algebra world history spanish and english last year, the academic experience had an all together awe inspiring affect on me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8989"/>
                </a:solidFill>
                <a:latin typeface="Perpetua"/>
              </a:rPr>
              <a:t>Nasal:nose::optic:______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8989"/>
                </a:solidFill>
                <a:latin typeface="Perpetua"/>
              </a:rPr>
              <a:t>Journey:destination::_______:finish line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23:23:27Z</dcterms:created>
  <dc:creator>litchfield</dc:creator>
  <dc:description/>
  <dc:language>en-US</dc:language>
  <cp:lastModifiedBy>VMS</cp:lastModifiedBy>
  <dcterms:modified xsi:type="dcterms:W3CDTF">2009-09-24T14:30:02Z</dcterms:modified>
  <cp:revision>2</cp:revision>
  <dc:subject/>
  <dc:title>English</dc:title>
</cp:coreProperties>
</file>